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38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38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52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0" y="868500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E2BD2-B10A-42D2-B43C-EF7AFEA10E3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43000" y="685800"/>
            <a:ext cx="4543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43000" y="685800"/>
            <a:ext cx="4543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43000" y="685800"/>
            <a:ext cx="45594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43000" y="685800"/>
            <a:ext cx="4543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43000" y="685800"/>
            <a:ext cx="45594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D7E7-5D7F-4840-871E-24BB95A20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BDD5-3A4F-49D6-B3E6-819F8FC2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696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6B69-E48D-4097-B141-ED3BB9E5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2812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9904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2812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9904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13C8-CE96-41AA-BFC8-F1014B98D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F05F-4127-4A47-B01B-8E2D92B9B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2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2819-BDE5-47D0-8831-41128396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4F8E-427C-4424-A9A4-2D46F806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5899-42D7-4F91-8D3C-55906C5A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21E9-6AF9-4864-853B-E7FC7AFA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196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4225-CE12-43DC-9C60-068F267C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E172-E3F0-4CFC-9345-D0FC70F7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2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890E-3B57-4A6E-881E-5A051683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5696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C23B-A68D-4FA8-B1DC-F037F9F9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41C1-0651-435F-B669-17BD1307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6E59-A30C-4F2F-B072-4605C541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5696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50FD-3B00-46FB-ADFC-97F10AEE2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2812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9904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2812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9904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D322-6654-4440-B52C-EC73648A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9090-4FD1-459D-9119-9D9ADAE8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BE01-14C0-419D-BB9E-4225AABB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EEF6-76ED-48A4-9DD4-5E6D5335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196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7B15-63FD-4AF5-9690-FB5193AC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CFA0-1218-46FF-A813-F2CFD230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696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4F21-D6E2-48F1-8432-251725A8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3885-614C-4B9B-89ED-CC4C6835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360" y="304920"/>
            <a:ext cx="7611840" cy="1104480"/>
            <a:chOff x="1071360" y="304920"/>
            <a:chExt cx="7611840" cy="1104480"/>
          </a:xfrm>
        </p:grpSpPr>
        <p:sp>
          <p:nvSpPr>
            <p:cNvPr id="1" name=""/>
            <p:cNvSpPr/>
            <p:nvPr/>
          </p:nvSpPr>
          <p:spPr>
            <a:xfrm flipH="1">
              <a:off x="4867920" y="304920"/>
              <a:ext cx="1104480" cy="11034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0160" y="304920"/>
              <a:ext cx="1103040" cy="11034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000" y="306000"/>
              <a:ext cx="1102680" cy="11034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1600" y="304920"/>
              <a:ext cx="1103040" cy="110340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720" y="304920"/>
              <a:ext cx="1103040" cy="110340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9600" indent="-309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5236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002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6236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002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D4FE5-0981-4FE5-BD62-8B751CF293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5320" cy="3198600"/>
            <a:chOff x="1658520" y="1600200"/>
            <a:chExt cx="6835320" cy="3198600"/>
          </a:xfrm>
        </p:grpSpPr>
        <p:sp>
          <p:nvSpPr>
            <p:cNvPr id="48" name=""/>
            <p:cNvSpPr/>
            <p:nvPr/>
          </p:nvSpPr>
          <p:spPr>
            <a:xfrm flipH="1">
              <a:off x="6970320" y="1600200"/>
              <a:ext cx="152316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0400" y="1600200"/>
              <a:ext cx="152352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120" y="1600200"/>
              <a:ext cx="1523520" cy="152316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120" y="3275640"/>
              <a:ext cx="152352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5640"/>
              <a:ext cx="152316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0320" y="3275640"/>
              <a:ext cx="1523160" cy="152316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002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6236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002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CECBEBA-AD4F-4FAA-8535-5289B2DB1F7F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3892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196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5236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186920" y="3933720"/>
            <a:ext cx="7272360" cy="20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e5ebf7"/>
                </a:solidFill>
                <a:latin typeface="Arial"/>
                <a:ea typeface="Arial"/>
              </a:rPr>
              <a:t>Modul št. 2/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e5ebf7"/>
                </a:solidFill>
                <a:latin typeface="Arial"/>
                <a:ea typeface="Arial"/>
              </a:rPr>
              <a:t>PRIMER OBLIKOVANJA NOVEGA POKLICNEGA PROFILA ( POMELA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e5ebf7"/>
                </a:solidFill>
                <a:latin typeface="Arial"/>
                <a:ea typeface="Arial"/>
              </a:rPr>
              <a:t>Alenka STUPAR, univ, dipl. so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e5ebf7"/>
                </a:solidFill>
                <a:latin typeface="Arial"/>
                <a:ea typeface="Arial"/>
              </a:rPr>
              <a:t>21. septem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08720" y="1773360"/>
            <a:ext cx="954000" cy="1225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129440" cy="527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564000" y="1897200"/>
            <a:ext cx="1152360" cy="855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940360" y="83664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iprava pobu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86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lopi tipičnih del v poklicu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ena potreb na trgu dela glede na                                                                                    dolgoročni razvoj gospodarstva oz.                                                                                     dejavnosti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vna podlaga oz. predpisi v SLO in                                                                            državah EU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narodna primerljivost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kovalci pobude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blikovanje poklicnega standar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36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e in koda poklica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ven zahtevnosti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klicne kompetence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s poklicnega standa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pis poklicnega standar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56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ročja dela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jučna dela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anja in spretnosti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aloge za dokazovanja usposobljenos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1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aliza kataloga Pletar 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( Priloga: Katalog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1160" cy="47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5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ročja dela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5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a in naloge (ključna dela)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5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anja in spretnosti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5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loge za dokazovanje usposoblje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1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aloga: Identifikacija novih poklicnih                                                                           profil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1160" cy="70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irajte 3 nove poklicne profile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berite enega glede na perspektivnost                                                                    dejavnosti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pravite Pobudo za oblikovanje                                                                              poklicnega  standarda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kujte poklicni standard (raven                                                                                        zahtevnosti, poklicne kompetence,                                                                                    opis poklicnega standarda)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zhodišča za oblikovanje novega poklicnega profi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62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12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iran projekt za realizacijo že                                                                                     zastavljene iniciative lokalne skupnosti za                                                                        razvoj perspektivnih dejavnosti na osnovi                                                                           lokalnih razvojnih potencialov – tradicije                                                                             domače obrti (lončarstvo – pletarstvo)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2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irane potrebe po novih znanjih in                                                                            spretnostih za opravljanje dejavnosti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zhodišča za oblikovanje novega poklicnega profi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2600" cy="83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11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delani programi usposabljanj (za pletenje                                                                                                                                            izdelkov iz ličja in oblikovanja in gline)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11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zpostavljena in delujoča učna delovanica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11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Nacionalnih poklicnih kvalifikacijah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riteriji za izbor novih poklicnih profil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54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pektivnost dejavnosti glede na nove potrebe trga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54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število potencialnih kandidatov za NPK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54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cija na področju izdelovanja izdelkov domačih obrti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erspektivnost dejavnost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68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7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ponudbe in povpraševanja po                                                                                izdelkih naravnih materialov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i trendi na področju uporabe naravnih                                                                           materialov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i trendi na področju razvoja podeželja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upni servis za razvoj in trženje izdelkov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aliza človeških vir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65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ločitev kriterijev za izbor ciljne skupine                                                                           (BO, podzaposleni, končana OŠ ali brez,                                                                          lastnik/najemnik  zemlje)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ciljne skupine brezposelnih oseb na                                                                      podeželju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ciljne skupine podzaposlenih na                                                                             podeželju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1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adicija domače obrt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116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delujočih izdelovalcev izdelkov                                                                               iz naravnih materialov v Prekmurju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kacija znanj in spretnosti s področja                                                                         domačih obrti pri lokalnem prebivalstvu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kacija morebitnih programov                                                                                     usposabljanj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31860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zbrana nova poklicna profi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19280"/>
            <a:ext cx="82170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5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tar/pletarka iz ličja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5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čar/lončar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stopek oblikovanja poklicnega standar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713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prava pobude (pobudo je pripravil                                                                                   nosilec projekta)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enovanje delovne skupine za pripravo                                                                        kataloga standardov strokovnih znanj in                                                                             spretnosti (sodelovanje različnih strok)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kovni sodelavec s strani CPI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prava Kataloga standardov strokovnih                                                                            znanj in spretnosti za PK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rditev na Strokovnem svetu RS za                                                                                 poklicno in strokovno izobraževanje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ina Kociper</cp:lastModifiedBy>
  <dcterms:modified xsi:type="dcterms:W3CDTF">2007-10-03T12:12:44Z</dcterms:modified>
  <cp:revision>7</cp:revision>
  <dc:subject/>
  <dc:title>Modul št. 2/b PRIMER OBLIKOVANJA NOVEGA POKLICNEGA PROFILA ( POMELAJ) Alenka STUPAR, univ, dipl. soc.  21. september 2007</dc:title>
</cp:coreProperties>
</file>